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EE5A-EC58-477C-965A-217DBF40C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18B6-88F4-4B3E-B14D-B388B4C5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61C5-B2BE-413F-83FF-83CACB632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46E0-84DD-4050-BDC1-970C931BF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F38A-C313-4935-9F86-157AD763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6394-D903-4EF9-A630-46F57881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E27B-FFC3-4F2C-B701-6162430E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1228-2B49-4421-A5FD-180E2868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1810-D0D3-449C-9531-21254669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6D2A-C677-4D3D-BBE4-5BAC3F9F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F4BC-5AC6-4394-B8DA-7527DFE2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BFE2-D259-4184-ACB5-384CD01F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E806-6188-4810-9886-87730A3D4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Comic Sans MS"/>
              </a:rPr>
              <a:t>outsid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66cc"/>
                </a:solidFill>
                <a:latin typeface="Comic Sans MS"/>
              </a:rPr>
              <a:t>wher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Comic Sans MS"/>
              </a:rPr>
              <a:t>upstairs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66cc"/>
                </a:solidFill>
                <a:latin typeface="Comic Sans MS"/>
              </a:rPr>
              <a:t>wher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Comic Sans MS"/>
              </a:rPr>
              <a:t>yesterday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66cc"/>
                </a:solidFill>
                <a:latin typeface="Comic Sans MS"/>
              </a:rPr>
              <a:t>whe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Comic Sans MS"/>
              </a:rPr>
              <a:t>insid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66cc"/>
                </a:solidFill>
                <a:latin typeface="Comic Sans MS"/>
              </a:rPr>
              <a:t>wher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Comic Sans MS"/>
              </a:rPr>
              <a:t>always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66cc"/>
                </a:solidFill>
                <a:latin typeface="Comic Sans MS"/>
              </a:rPr>
              <a:t>whe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Comic Sans MS"/>
              </a:rPr>
              <a:t>nearby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66cc"/>
                </a:solidFill>
                <a:latin typeface="Comic Sans MS"/>
              </a:rPr>
              <a:t>wher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66cc"/>
                </a:solidFill>
                <a:latin typeface="Comic Sans MS"/>
              </a:rPr>
              <a:t>whe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Comic Sans MS"/>
              </a:rPr>
              <a:t>her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66cc"/>
                </a:solidFill>
                <a:latin typeface="Comic Sans MS"/>
              </a:rPr>
              <a:t>wher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Comic Sans MS"/>
              </a:rPr>
              <a:t>ther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66cc"/>
                </a:solidFill>
                <a:latin typeface="Comic Sans MS"/>
              </a:rPr>
              <a:t>wher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Comic Sans MS"/>
              </a:rPr>
              <a:t>around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66cc"/>
                </a:solidFill>
                <a:latin typeface="Comic Sans MS"/>
              </a:rPr>
              <a:t>wher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achen BT"/>
              </a:rPr>
              <a:t> </a:t>
            </a: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I looked everywhere for my coat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105520" y="1752480"/>
            <a:ext cx="304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124080" y="25146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>
            <a:off x="4267080" y="1295280"/>
            <a:ext cx="350532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762120" y="2590920"/>
            <a:ext cx="7696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achen BT"/>
              </a:rPr>
              <a:t> </a:t>
            </a: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Mary walked around the building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"/>
          <p:cNvSpPr/>
          <p:nvPr/>
        </p:nvSpPr>
        <p:spPr>
          <a:xfrm>
            <a:off x="5257800" y="3429000"/>
            <a:ext cx="213372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838080" y="4648320"/>
            <a:ext cx="7543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achen BT"/>
              </a:rPr>
              <a:t> </a:t>
            </a: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Soon it will be time to go home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3"/>
          <p:cNvSpPr/>
          <p:nvPr/>
        </p:nvSpPr>
        <p:spPr>
          <a:xfrm>
            <a:off x="1523880" y="5410080"/>
            <a:ext cx="16002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Comic Sans MS"/>
              </a:rPr>
              <a:t>downstairs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66cc"/>
                </a:solidFill>
                <a:latin typeface="Comic Sans MS"/>
              </a:rPr>
              <a:t>wher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achen BT"/>
              </a:rPr>
              <a:t> </a:t>
            </a: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We must leave here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5105520" y="1752480"/>
            <a:ext cx="304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3124080" y="25146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"/>
          <p:cNvSpPr/>
          <p:nvPr/>
        </p:nvSpPr>
        <p:spPr>
          <a:xfrm>
            <a:off x="6172200" y="1600200"/>
            <a:ext cx="1371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762120" y="2209680"/>
            <a:ext cx="76960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achen BT"/>
              </a:rPr>
              <a:t> </a:t>
            </a: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The men went upstairs to get the boxes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7"/>
          <p:cNvSpPr/>
          <p:nvPr/>
        </p:nvSpPr>
        <p:spPr>
          <a:xfrm>
            <a:off x="5715000" y="2971800"/>
            <a:ext cx="2514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914400" y="4267080"/>
            <a:ext cx="7543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achen BT"/>
              </a:rPr>
              <a:t> </a:t>
            </a: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I have never moved from my home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9"/>
          <p:cNvSpPr/>
          <p:nvPr/>
        </p:nvSpPr>
        <p:spPr>
          <a:xfrm>
            <a:off x="3809880" y="5029200"/>
            <a:ext cx="144792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achen BT"/>
              </a:rPr>
              <a:t> </a:t>
            </a: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Now we can go to P.E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105520" y="1752480"/>
            <a:ext cx="304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124080" y="25146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"/>
          <p:cNvSpPr/>
          <p:nvPr/>
        </p:nvSpPr>
        <p:spPr>
          <a:xfrm>
            <a:off x="1600200" y="1676520"/>
            <a:ext cx="11430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762120" y="2209680"/>
            <a:ext cx="7696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achen BT"/>
              </a:rPr>
              <a:t> </a:t>
            </a: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My coat is someplace in the classroom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"/>
          <p:cNvSpPr/>
          <p:nvPr/>
        </p:nvSpPr>
        <p:spPr>
          <a:xfrm>
            <a:off x="4800600" y="2971800"/>
            <a:ext cx="312408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914400" y="4267080"/>
            <a:ext cx="7543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achen BT"/>
              </a:rPr>
              <a:t> </a:t>
            </a: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Yesterday it snowed three inches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1752480" y="5029200"/>
            <a:ext cx="281952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Comic Sans MS"/>
              </a:rPr>
              <a:t>soo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66cc"/>
                </a:solidFill>
                <a:latin typeface="Comic Sans MS"/>
              </a:rPr>
              <a:t>whe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Comic Sans MS"/>
              </a:rPr>
              <a:t>never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66cc"/>
                </a:solidFill>
                <a:latin typeface="Comic Sans MS"/>
              </a:rPr>
              <a:t>whe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500" spc="-1" strike="noStrike">
                <a:solidFill>
                  <a:srgbClr val="000000"/>
                </a:solidFill>
                <a:latin typeface="Comic Sans MS"/>
              </a:rPr>
              <a:t>everywhere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66cc"/>
                </a:solidFill>
                <a:latin typeface="Comic Sans MS"/>
              </a:rPr>
              <a:t>wher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Comic Sans MS"/>
              </a:rPr>
              <a:t>now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66cc"/>
                </a:solidFill>
                <a:latin typeface="Comic Sans MS"/>
              </a:rPr>
              <a:t>whe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Comic Sans MS"/>
              </a:rPr>
              <a:t>dow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66cc"/>
                </a:solidFill>
                <a:latin typeface="Comic Sans MS"/>
              </a:rPr>
              <a:t>wher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Comic Sans MS"/>
              </a:rPr>
              <a:t>later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66cc"/>
                </a:solidFill>
                <a:latin typeface="Comic Sans MS"/>
              </a:rPr>
              <a:t>whe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Comic Sans MS"/>
              </a:rPr>
              <a:t>up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66cc"/>
                </a:solidFill>
                <a:latin typeface="Comic Sans MS"/>
              </a:rPr>
              <a:t>wher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01:46:16Z</dcterms:created>
  <dc:creator>Missy</dc:creator>
  <dc:description/>
  <dc:language>en-US</dc:language>
  <cp:lastModifiedBy>teacher</cp:lastModifiedBy>
  <dcterms:modified xsi:type="dcterms:W3CDTF">2011-02-07T01:35:47Z</dcterms:modified>
  <cp:revision>4</cp:revision>
  <dc:subject/>
  <dc:title>outside</dc:title>
</cp:coreProperties>
</file>